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20.gif" ContentType="image/gif"/>
  <Override PartName="/ppt/media/image3.gif" ContentType="image/gif"/>
  <Override PartName="/ppt/media/image21.gif" ContentType="image/gif"/>
  <Override PartName="/ppt/media/image19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7.gif" ContentType="image/gif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1C9F-EF6E-44D7-A1CC-D981390EA9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A95C-B899-4C60-863E-529ACB85F0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620F-6661-4C82-AF18-031973D0FD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9E1D-0C09-497E-AF52-177E7AADDD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883-DD34-473D-8FED-8CDCF03C1F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25B3-5D47-45B6-AE3C-501271A2D0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652C-DA72-4A6F-AAA3-D1F22935D0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BE24-2CD9-494E-9061-99B49D935E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33AD-2AC7-43A4-B089-3E5F5FBA8A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A0D5-E213-4F4B-8D54-A1AF887883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2F62-3E39-433F-BA07-7BBB276067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5327-221A-4930-9E9D-D0AE37EE95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8D5-8E39-49DE-B79D-A21E743A69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E598-ED90-4951-AF93-3CF27223D3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23C9-D9C9-45BD-BEAD-1845F1D0CB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947E-000E-483C-BA03-4147769AA1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F15B-0065-4E59-B7F5-D2B9F3B50D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C80F-7862-4610-885D-856D63E417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D68C-F9F3-4765-AB3D-5D6C7BE138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4087-0365-4B19-B4A4-B389372110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4BB8-7D7E-4DBC-95BA-4F0D320C55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12FE-053D-407A-AB63-446C9B1AD0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9D4-0046-45D4-A323-A0AAED60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F69-FDB0-448D-9F2C-57F698BE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927-684B-4649-8331-840935A8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548-AC9A-4724-B8B5-E2C5DC34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0E8-E05F-48A6-8E31-A7C9C004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802-F018-4431-ADD7-544BA459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262-3EC7-4CA9-B9A1-9CCD04F3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303-63E7-4346-A4F6-FC873E9A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816-C4DA-43B4-ACEA-A4D8D4FB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F2D-057A-468E-93CD-F9D71D8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EE7-44CF-43F4-A1A2-E294CC78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FAD-B515-4E4C-9A81-A92C14C1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BEBE-46E4-4E54-B52B-840112D08A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" name="Picture 4" descr="audio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Picture 4" descr="onda con formulas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f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Picture 4" descr="complex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ttp://micro.magnet.fsu.edu/electromag/java/microphone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http://www.falstad.com/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6" name="Picture 4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17" descr="pulse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9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6" descr="hard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Picture 6" descr="reflect2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reflect1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ágina WEB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Picture 4" descr="superposición de ondas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Picture 5" descr="superposicion2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6" descr="superposicion3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3" descr="audio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7" descr="superposicion4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ma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3" descr="additive sintesis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5" descr="fft-2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fft-3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fft-1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arcial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ttp://www.cs.ubc.ca/spider/kvdoel/sound_demo6.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13" descr="peoplewave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/centres/a8019411/caixa/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cc"/>
                </a:solidFill>
                <a:latin typeface="Arial"/>
              </a:rPr>
              <a:t>http://www.kettering.edu/~drussell/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stringpulse"/>
          <p:cNvPicPr/>
          <p:nvPr/>
        </p:nvPicPr>
        <p:blipFill>
          <a:blip r:embed="rId3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2" name="Picture 4" descr="water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ynWater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sunami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7" name="Picture 4" descr="Lwave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0" name="Picture 6" descr="Twave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3" name="Picture 4" descr="Onda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74" name="Oval 6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Se mide en Hertz (ciclos/segundo).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Picture 15" descr="onda con formulas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5T12:24:20Z</dcterms:modified>
  <cp:revision>36</cp:revision>
  <dc:subject/>
  <dc:title>Taller de Ciencias en la Música </dc:title>
</cp:coreProperties>
</file>